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10058400" cy="7772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3B7989B-599C-4AB2-86A6-96738C0D8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503280" y="1787400"/>
            <a:ext cx="905184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503280" y="4466880"/>
            <a:ext cx="905184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2E547D6-10C6-4AE0-BF01-99964CDB4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5032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51418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503280" y="446688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5141880" y="446688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EC9044C-C3A9-482F-8769-5DEEDE5AD0D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503280" y="178740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564000" y="178740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624720" y="178740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503280" y="446688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564000" y="446688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624720" y="446688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CCB0F50-05DC-4281-A148-41D5EC2DBC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503280" y="1787400"/>
            <a:ext cx="9051840" cy="512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350788F-2F8A-4CCD-88F5-E34D270DE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503280" y="1787400"/>
            <a:ext cx="905184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7E28F27-1A2C-41C4-BB25-F9344CE1D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503280" y="1787400"/>
            <a:ext cx="441720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5141880" y="1787400"/>
            <a:ext cx="441720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6B4C528-0173-41DC-B402-D9891D7A4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DF310F5-FD5A-4C2D-B799-384689466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6560" y="216000"/>
            <a:ext cx="8585280" cy="1736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C0110C1-724A-451F-A08B-2F4D09A0F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5032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5141880" y="1787400"/>
            <a:ext cx="441720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503280" y="446688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85B9CB5-CCC3-4F03-B85B-E74183D91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503280" y="1787400"/>
            <a:ext cx="441720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51418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5141880" y="446688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9679E55-AAD4-4A40-83D5-D7BB487FF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5032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51418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503280" y="4466880"/>
            <a:ext cx="905184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517E4D9-544D-40C3-BD33-AC4D01F0CF1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503280" y="1787400"/>
            <a:ext cx="9051840" cy="512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3419640" y="7227360"/>
            <a:ext cx="3219120" cy="389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502920" y="7227360"/>
            <a:ext cx="2313000" cy="389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7241760" y="7227360"/>
            <a:ext cx="2313000" cy="3891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12D5-3825-4E4C-A4E8-D3155D02ABFA}" type="slidenum">
              <a:rPr b="0" lang="en-US" sz="1800" spc="-1" strike="noStrike">
                <a:solidFill>
                  <a:srgbClr val="898989"/>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 name=""/>
          <p:cNvGraphicFramePr/>
          <p:nvPr/>
        </p:nvGraphicFramePr>
        <p:xfrm>
          <a:off x="324000" y="635040"/>
          <a:ext cx="9434520" cy="6708600"/>
        </p:xfrm>
        <a:graphic>
          <a:graphicData uri="http://schemas.openxmlformats.org/drawingml/2006/table">
            <a:tbl>
              <a:tblPr/>
              <a:tblGrid>
                <a:gridCol w="1473120"/>
                <a:gridCol w="330120"/>
                <a:gridCol w="2543040"/>
                <a:gridCol w="2543400"/>
                <a:gridCol w="2544840"/>
              </a:tblGrid>
              <a:tr h="333360">
                <a:tc>
                  <a:txBody>
                    <a:bodyPr lIns="0" rIns="0" tIns="0" bIns="0" anchor="t">
                      <a:noAutofit/>
                    </a:bodyPr>
                    <a:p>
                      <a:pPr marL="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ACTFL Level</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ILR</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c>
                  <a:txBody>
                    <a:bodyPr lIns="0" rIns="0" tIns="0" bIns="0" anchor="t">
                      <a:noAutofit/>
                    </a:bodyPr>
                    <a:p>
                      <a:pPr marL="42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Language Functions</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c>
                  <a:txBody>
                    <a:bodyPr lIns="0" rIns="0" tIns="0" bIns="0" anchor="t">
                      <a:noAutofit/>
                    </a:bodyPr>
                    <a:p>
                      <a:pPr marL="44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Corresponding Professions/Positions*</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c>
                  <a:txBody>
                    <a:bodyPr lIns="0" rIns="0" tIns="0" bIns="0" anchor="t">
                      <a:noAutofit/>
                    </a:bodyPr>
                    <a:p>
                      <a:pPr marL="4428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Examples of Who Is Likely to Function at This Level?</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r>
              <a:tr h="760320">
                <a:tc>
                  <a:txBody>
                    <a:bodyPr lIns="0" rIns="0" tIns="0" bIns="0" anchor="t">
                      <a:noAutofit/>
                    </a:bodyPr>
                    <a:p>
                      <a:pPr marL="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a:ea typeface="Futura"/>
                        </a:rPr>
                        <a:t>Distinguished</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bcbe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5</a:t>
                      </a:r>
                      <a:endParaRPr b="0" lang="en-US" sz="900" spc="-1" strike="noStrike">
                        <a:solidFill>
                          <a:srgbClr val="000000"/>
                        </a:solidFill>
                        <a:latin typeface="Calibri"/>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4</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d1d3d4"/>
                    </a:solidFill>
                  </a:tcPr>
                </a:tc>
                <a:tc>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Ability to tailor language to specific audience, persuade, negotiate. Deal with nuance and subtlety.</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d1d3d4"/>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Foreign Service: Diplomat, Contract Negotiator, International Specialist, Intelligence Specialist</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d1d3d4"/>
                    </a:solidFill>
                  </a:tcPr>
                </a:tc>
                <a:tc>
                  <a:txBody>
                    <a:bodyPr lIns="0" rIns="0" tIns="0" bIns="0" anchor="t">
                      <a:noAutofit/>
                    </a:bodyPr>
                    <a:p>
                      <a:pPr marL="152280" indent="-114120" algn="just">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Highly articulate, professionally specialized native speakers</a:t>
                      </a:r>
                      <a:endParaRPr b="0" lang="en-US" sz="800" spc="-1" strike="noStrike">
                        <a:solidFill>
                          <a:srgbClr val="000000"/>
                        </a:solidFill>
                        <a:latin typeface="Calibri"/>
                      </a:endParaRPr>
                    </a:p>
                    <a:p>
                      <a:pPr marL="152280" indent="-114120" algn="just">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with extended  (17 years) and current professional and/or educational experience in the target culture</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d1d3d4"/>
                    </a:solidFill>
                  </a:tcPr>
                </a:tc>
              </a:tr>
              <a:tr h="631800">
                <a:tc>
                  <a:txBody>
                    <a:bodyPr lIns="0" rIns="0" tIns="0" bIns="0" anchor="t">
                      <a:noAutofit/>
                    </a:bodyPr>
                    <a:p>
                      <a:pPr marL="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a:ea typeface="Futura"/>
                        </a:rPr>
                        <a:t>Superior</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dd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3</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f6d2"/>
                    </a:solidFill>
                  </a:tcPr>
                </a:tc>
                <a:tc>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Discuss topics extensively, support opinions, hypothesize.  Deal with linguistically unfamiliar situation</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f6d2"/>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University Language Professor, Financial Services Marketing Consultant, Foreign Area Officer, Lawyer, Judge, Court Interpreter</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f6d2"/>
                    </a:solidFill>
                  </a:tcPr>
                </a:tc>
                <a:tc>
                  <a:txBody>
                    <a:bodyPr lIns="0" rIns="0" tIns="0" bIns="0" anchor="t">
                      <a:noAutofit/>
                    </a:bodyPr>
                    <a:p>
                      <a:pPr marL="152280" indent="-114120">
                        <a:lnSpc>
                          <a:spcPct val="100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Well-educated native speakers</a:t>
                      </a:r>
                      <a:endParaRPr b="0" lang="en-US" sz="800" spc="-1" strike="noStrike">
                        <a:solidFill>
                          <a:srgbClr val="000000"/>
                        </a:solidFill>
                        <a:latin typeface="Calibri"/>
                      </a:endParaRPr>
                    </a:p>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Educated language learners with extended professional and/or educational experience in the target language environment</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f6d2"/>
                    </a:solidFill>
                  </a:tcPr>
                </a:tc>
              </a:tr>
              <a:tr h="768600">
                <a:tc>
                  <a:txBody>
                    <a:bodyPr lIns="0" rIns="0" tIns="0" bIns="0" anchor="t">
                      <a:noAutofit/>
                    </a:bodyPr>
                    <a:p>
                      <a:pPr marL="584280" indent="-1573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Advanced High</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f79421"/>
                    </a:solidFill>
                  </a:tcPr>
                </a:tc>
                <a:tc rowSpan="3">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2+</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2</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e6cb"/>
                    </a:solidFill>
                  </a:tcPr>
                </a:tc>
                <a:tc rowSpan="3">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Narrate and describe in past, present and future and deal effectively with an unanticipated complication</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e6cb"/>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Physician, Human Resources Communications Consultant, Financial Services Senior Consultant, Quality Assurance Specialist, Marketing Manager, Financial Advisor, Broker, Military Linguist, Translation Officer</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ffe6cb"/>
                    </a:solidFill>
                  </a:tcPr>
                </a:tc>
                <a:tc>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with graduate degrees in language or a related area and extended educational experience in target environment</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ffe6cb"/>
                    </a:solidFill>
                  </a:tcPr>
                </a:tc>
              </a:tr>
              <a:tr h="950760">
                <a:tc>
                  <a:txBody>
                    <a:bodyPr lIns="0" rIns="0" tIns="0" bIns="0" anchor="t">
                      <a:noAutofit/>
                    </a:bodyPr>
                    <a:p>
                      <a:pPr marL="611280" indent="-1843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Advanced Mid</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f7942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Banking and Investment Services Customer Service Representative, Fraud Specialist,  Account Executive, Medical Interpreter, Patient Advocate, Court Stenographer, Court Interpreter, Human Resources Benefits Specialist, Technical Service Agent, Collection Representative, Estimating Coordinator</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ffe6cb"/>
                    </a:solidFill>
                  </a:tcPr>
                </a:tc>
                <a:tc>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Heritage speakers, informal learners, non- academic learners who have significant contact with language</a:t>
                      </a:r>
                      <a:endParaRPr b="0" lang="en-US" sz="800" spc="-1" strike="noStrike">
                        <a:solidFill>
                          <a:srgbClr val="000000"/>
                        </a:solidFill>
                        <a:latin typeface="Calibri"/>
                      </a:endParaRPr>
                    </a:p>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Undergraduate majors with year-long study in the target language culture</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ffe6cb"/>
                    </a:solidFill>
                  </a:tcPr>
                </a:tc>
              </a:tr>
              <a:tr h="768240">
                <a:tc>
                  <a:txBody>
                    <a:bodyPr lIns="0" rIns="0" tIns="0" bIns="0" anchor="t">
                      <a:noAutofit/>
                    </a:bodyPr>
                    <a:p>
                      <a:pPr marL="600120" indent="-17460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Advanced Low</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f7942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K-12 Language Teacher, Nurse, Social Worker, Claims Processor, Police Officer, Maintenance Administrator, Billing Clerk, Legal Secretary, Legal Receptionist. 911 Dispatcher, Consumer Products Customer Services Representative, Retail Services Personnel</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ffe6cb"/>
                    </a:solidFill>
                  </a:tcPr>
                </a:tc>
                <a:tc>
                  <a:txBody>
                    <a:bodyPr lIns="0" rIns="0" tIns="0" bIns="0" anchor="t">
                      <a:noAutofit/>
                    </a:bodyPr>
                    <a:p>
                      <a:pPr marL="152280" indent="-114120">
                        <a:lnSpc>
                          <a:spcPct val="100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Undergraduate language majors</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ffe6cb"/>
                    </a:solidFill>
                  </a:tcPr>
                </a:tc>
              </a:tr>
              <a:tr h="408240">
                <a:tc>
                  <a:txBody>
                    <a:bodyPr lIns="0" rIns="0" tIns="0" bIns="0" anchor="t">
                      <a:noAutofit/>
                    </a:bodyPr>
                    <a:p>
                      <a:pPr marL="584280" indent="-23976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Intermediate High</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72bf44"/>
                    </a:solidFill>
                  </a:tcPr>
                </a:tc>
                <a:tc rowSpan="3">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1+</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1</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e0efd4"/>
                    </a:solidFill>
                  </a:tcPr>
                </a:tc>
                <a:tc rowSpan="3">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Create with language, initiate, maintain and bring to a close simple conversations by asking and responding to simple questions</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e0efd4"/>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Policeman, Fireman, Utilities Installer, Auto Inspector, Aviation Personnel, Missionary, Tour guide</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e0efd4"/>
                    </a:solidFill>
                  </a:tcPr>
                </a:tc>
                <a:tc rowSpan="2">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6-8 year sequences of study (AP, etc.) or 4-6 semester college sequence</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e0efd4"/>
                    </a:solidFill>
                  </a:tcPr>
                </a:tc>
              </a:tr>
              <a:tr h="358560">
                <a:tc>
                  <a:txBody>
                    <a:bodyPr lIns="0" rIns="0" tIns="0" bIns="0" anchor="t">
                      <a:noAutofit/>
                    </a:bodyPr>
                    <a:p>
                      <a:pPr marL="611280" indent="-26676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Intermediate Mid</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72bf4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Cashier, Sales clerk (highly predictable contexts), Receptionist</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e0efd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79680">
                <a:tc>
                  <a:txBody>
                    <a:bodyPr lIns="0" rIns="0" tIns="0" bIns="0" anchor="t">
                      <a:noAutofit/>
                    </a:bodyPr>
                    <a:p>
                      <a:pPr marL="600120" indent="-25704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Intermediate Low</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72bf4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e0efd4"/>
                    </a:solidFill>
                  </a:tcPr>
                </a:tc>
                <a:tc>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4 year high school sequence or 2 semester college sequence</a:t>
                      </a:r>
                      <a:endParaRPr b="0" lang="en-US" sz="800" spc="-1" strike="noStrike">
                        <a:solidFill>
                          <a:srgbClr val="000000"/>
                        </a:solidFill>
                        <a:latin typeface="Calibri"/>
                      </a:endParaRPr>
                    </a:p>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an immersion language program in grades K-6</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e0efd4"/>
                    </a:solidFill>
                  </a:tcPr>
                </a:tc>
              </a:tr>
              <a:tr h="358560">
                <a:tc>
                  <a:txBody>
                    <a:bodyPr lIns="0" rIns="0" tIns="0" bIns="0" anchor="t">
                      <a:noAutofit/>
                    </a:bodyPr>
                    <a:p>
                      <a:pPr marL="520560"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Novice High</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0c4e99"/>
                    </a:solidFill>
                  </a:tcPr>
                </a:tc>
                <a:tc rowSpan="3">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0+</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0</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c8cbe3"/>
                    </a:solidFill>
                  </a:tcPr>
                </a:tc>
                <a:tc rowSpan="3">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Communicate minimally with formulaic and rote utterances, lists and phrases</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c8cbe3"/>
                    </a:solidFill>
                  </a:tcPr>
                </a:tc>
                <a:tc row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c8cbe3"/>
                    </a:solidFill>
                  </a:tcPr>
                </a:tc>
                <a:tc>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content-based language program in grades K-6</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c8cbe3"/>
                    </a:solidFill>
                  </a:tcPr>
                </a:tc>
              </a:tr>
              <a:tr h="331920">
                <a:tc>
                  <a:txBody>
                    <a:bodyPr lIns="0" rIns="0" tIns="0" bIns="0" anchor="t">
                      <a:noAutofit/>
                    </a:bodyPr>
                    <a:p>
                      <a:pPr marL="520560"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Novice Mid</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0c4e99"/>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2 years of high school language study</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c8cbe3"/>
                    </a:solidFill>
                  </a:tcPr>
                </a:tc>
              </a:tr>
              <a:tr h="358560">
                <a:tc>
                  <a:txBody>
                    <a:bodyPr lIns="0" rIns="0" tIns="0" bIns="0" anchor="t">
                      <a:noAutofit/>
                    </a:bodyPr>
                    <a:p>
                      <a:pPr marL="520560"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Novice Low</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0c4e99"/>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2" name="PlaceHolder 1"/>
          <p:cNvSpPr>
            <a:spLocks noGrp="1"/>
          </p:cNvSpPr>
          <p:nvPr>
            <p:ph type="title"/>
          </p:nvPr>
        </p:nvSpPr>
        <p:spPr>
          <a:xfrm>
            <a:off x="736560" y="216000"/>
            <a:ext cx="8585280" cy="41184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6466"/>
                </a:solidFill>
                <a:latin typeface="Futura"/>
                <a:ea typeface="Futura"/>
              </a:rPr>
              <a:t>ORAL PROFICIENCY LEVELS IN THE WORKPLACE</a:t>
            </a:r>
            <a:endParaRPr b="0" lang="en-US" sz="2700" spc="-1" strike="noStrike">
              <a:solidFill>
                <a:srgbClr val="1f497d"/>
              </a:solidFill>
              <a:latin typeface="Calibri"/>
            </a:endParaRPr>
          </a:p>
        </p:txBody>
      </p:sp>
      <p:sp>
        <p:nvSpPr>
          <p:cNvPr id="43" name="object 4"/>
          <p:cNvSpPr/>
          <p:nvPr/>
        </p:nvSpPr>
        <p:spPr>
          <a:xfrm>
            <a:off x="3152880" y="7319880"/>
            <a:ext cx="6556320" cy="419400"/>
          </a:xfrm>
          <a:prstGeom prst="rect">
            <a:avLst/>
          </a:prstGeom>
          <a:noFill/>
          <a:ln w="0">
            <a:noFill/>
          </a:ln>
        </p:spPr>
        <p:style>
          <a:lnRef idx="0"/>
          <a:fillRef idx="0"/>
          <a:effectRef idx="0"/>
          <a:fontRef idx="minor"/>
        </p:style>
        <p:txBody>
          <a:bodyPr lIns="0" rIns="0" tIns="0" bIns="0" anchor="t">
            <a:spAutoFit/>
          </a:bodyPr>
          <a:p>
            <a:pPr marL="115920" indent="-10476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36466"/>
                </a:solidFill>
                <a:latin typeface="Futura Book"/>
                <a:ea typeface="Futura Book"/>
              </a:rPr>
              <a:t>* The levels of proficiency associated with each of the positions above are minimal levels of oral proficiency based on task analyses. The minimal levels were determined by subject matter experts from companies and agencies who use ACTFL proficiency tests.</a:t>
            </a:r>
            <a:endParaRPr b="0" lang="en-US" sz="900" spc="-1" strike="noStrike">
              <a:solidFill>
                <a:srgbClr val="000000"/>
              </a:solidFill>
              <a:latin typeface="Calibri"/>
            </a:endParaRPr>
          </a:p>
        </p:txBody>
      </p:sp>
      <p:sp>
        <p:nvSpPr>
          <p:cNvPr id="44" name="object 5"/>
          <p:cNvSpPr/>
          <p:nvPr/>
        </p:nvSpPr>
        <p:spPr>
          <a:xfrm>
            <a:off x="365040" y="7350120"/>
            <a:ext cx="2122560" cy="225720"/>
          </a:xfrm>
          <a:prstGeom prst="rect">
            <a:avLst/>
          </a:prstGeom>
          <a:noFill/>
          <a:ln w="0">
            <a:noFill/>
          </a:ln>
        </p:spPr>
        <p:style>
          <a:lnRef idx="0"/>
          <a:fillRef idx="0"/>
          <a:effectRef idx="0"/>
          <a:fontRef idx="minor"/>
        </p:style>
        <p:txBody>
          <a:bodyPr lIns="0" rIns="0" tIns="0" bIns="0" anchor="t">
            <a:spAutoFit/>
          </a:bodyPr>
          <a:p>
            <a:pPr marL="141120" indent="-129960">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636466"/>
                </a:solidFill>
                <a:latin typeface="Futura"/>
                <a:ea typeface="Futura"/>
              </a:rPr>
              <a:t>© 2015  THE AMERICAN COUNCIL ON THE TEACHING OF FOREIGN LANGUAGES</a:t>
            </a: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9T00:04:05Z</dcterms:created>
  <dc:creator>Elvira Swender</dc:creator>
  <dc:description/>
  <dc:language>en-US</dc:language>
  <cp:lastModifiedBy>Paul Sandrock</cp:lastModifiedBy>
  <dcterms:modified xsi:type="dcterms:W3CDTF">2015-08-20T00:57:12Z</dcterms:modified>
  <cp:revision>1</cp:revision>
  <dc:subject/>
  <dc:title>ORAL PROFICIENCY LEVELS IN THE WORKPLA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5-01-29T00:00:00Z</vt:filetime>
  </property>
  <property fmtid="{D5CDD505-2E9C-101B-9397-08002B2CF9AE}" pid="3" name="LastSaved">
    <vt:filetime>2015-01-29T00:00:00Z</vt:filetime>
  </property>
</Properties>
</file>